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4DE-CB03-4464-A458-406F8498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B0F-2252-4096-8963-DE01B565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2261E-440E-488E-95B9-7C13AB1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A1ED2-9D3F-48C2-9F5C-2D49F909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3A1A3-55BF-4C52-A346-E383397D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32A8A-7262-4373-9AD6-26B6B63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E56A6-FF33-4F1C-9361-2D26CBC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6E8B0-0E15-414C-BD14-B197BE55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C2087-1E0A-4BE1-8491-1404E041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4330F-EBD5-498B-AA85-C4E46E12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2DBEE-335D-40E2-A3B9-4973E58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A1C36-F959-47C0-9A3A-25B684A1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E57-9173-4F73-AF85-DF231C20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B48BA-78CA-4AA5-AA57-043CE47E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29207-55E1-4CCC-8126-1E1AF6E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4FA55-E014-41AD-B959-6B7C283B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9A2C3-B423-4A88-A599-E271367C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BA0AD-8DFA-4067-9309-9A4E89CD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CA81A-9AB1-45A5-89C6-D46144C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48191-1F42-4267-A26A-EA28080C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2DCB4-E49C-4A9B-91C7-D009B59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4E73D-696C-47B3-8C97-B684BCFA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AF6E8-D765-46D5-8AED-7B42C848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F1F-34EA-41C7-9AD3-1B15DDD9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A625B-C1BE-408A-8338-DC1385B7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C5FA3-E424-43B4-9380-144B21FB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5A662-A75A-4057-9AD7-BFA3106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290C5-4A28-4CE7-AE40-EF37EFE0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0E708-36B2-46B4-A81C-9C61DF21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2E91A-8762-47FB-9229-558A1B57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B2A4D-5BDB-4AF8-9890-9EB60797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A646-7123-44FC-BE95-547B49F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52DE8-A01B-485D-8653-ED10F323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627AE-F400-4A66-9F3B-733810E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5C3-F3F2-47E4-87D0-83070117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9951-5A5A-4042-A9C4-881F6C2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AC10A-2C2D-424C-BA45-40A15857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55F8B-A3FD-4C6D-84B5-48F1CD41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A32E4-A481-495F-8425-AFDEEE9E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1E6CF-4E65-413E-9625-60AEECF8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49EDE-55F0-46AC-B344-4B1B276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F86AF-DC73-45BD-AD2F-FF3EB20E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FB1BE-DE65-42C0-B591-411FC485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C5F38-960A-4E8F-86EF-CB60ED43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38970-15F4-462F-9463-F8BFDD2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58E9-90B2-4B64-BA2D-0ED3C65F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DEF9E-0567-404C-BF37-70621486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AC703-FA65-4C99-ADB6-C29D7BE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01C75-838C-436A-8DA2-10931E8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9EEC8-A289-4586-888E-4472C079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FD2DE-DFAC-4DD0-92ED-ADEAA3DF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68980-CF6B-4B27-BBEB-2B1701E9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CE4EA-5164-4F8F-AF06-296B519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E3281-69E0-450D-9FFF-D1C0B602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1A305-30E3-4C2B-8B8F-B60194A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64E22-E8F3-4F78-A099-1C0BFF37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FFFC-F0A9-4AAC-AFDE-58B6BCD5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839DC-FE60-4F49-BC47-7228AF3C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3D84B-7D0F-4003-BD91-8FE76A46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4F867-AAF9-4382-B4DF-C23C3ABA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0A155-6D1E-43AD-BA82-0C0F52C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A8D12-A79B-4199-9D20-504F9A8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8CDBE-7B5D-4CE6-91BE-23FF01F8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39FBA-C4A5-4A2D-96C1-BA8542E8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959EF-2DBD-4027-B46A-1A599013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05298-073F-4E99-8475-9C95FB1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D0200-D393-43D5-A957-641E3D5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1A8-83F2-4B17-9A9B-A519B4E4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8A9BA-642B-4DF6-94D8-72B24AFB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853EF-7B90-4EDA-A7E0-C2E597F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4F49F-2275-4E71-BD2F-9A5B33A0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F9508-6314-455D-9863-A30D019A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241E6-F278-4D16-A74D-37B75A7F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F596C-B956-4862-9598-0FABE7A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18DDA-1EE7-4B78-9568-95C22E4E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010EA-5748-40C1-AA38-7D4CA6C6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5B45D-BF45-49C1-9DB7-0EC137DB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C6219-560D-46CC-BBD8-4E9AF347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92AB-40A1-4A3C-8649-2A003EF3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74FEA-85BB-415C-A30A-E15DBAD8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9F5BD-4479-4E98-8BA5-0C73D050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FC9E3-F3DF-48E6-87AA-6FC24E35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ABEFA-B296-459F-8A50-F1943720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A08DC-7369-4E00-AD6F-26B99011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7A3D8-5A36-4271-A57A-A0058BD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CA420-763C-4904-9152-34000E46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33EC7-9A8C-4DB9-8EAF-4509EB0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DFD3E-A5A1-4B2D-8480-D3E181E1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60C98-8A09-46C0-966E-F2043708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2A9E-79A0-4AD5-A0A7-BA0079D1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0774F-EB59-4746-8BCB-3B5FD80E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540A2-19C5-446B-BF91-D7205813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8870C-331B-4375-976F-7F40CA96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AE56C-8879-4B3A-BA11-CDB4BFD1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4BA9D-411B-4CCD-B6AB-5FCBF749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C8545-BCBA-4CF5-8DBD-7CD2282B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BC3B1-A62A-4A87-BC12-93D877C6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F8309-CD70-4180-85AF-8E28932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A89CF-16F6-4AFB-BD78-85BC0B2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4788C-EAD6-4D04-84FF-933BCCA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9F88-6855-427B-9C22-78D9B8A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8B9F2-4F04-479D-B0BA-0146137E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F5A3F-3821-46F9-B00A-CEB68D15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AD6B2-F051-44BF-841E-42BEF67D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9001A-4B54-47DA-8831-3740B155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29F177-B587-4091-9364-59C7329F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CCF0B-66FC-4B3C-806E-0825A094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537D8-334A-49B6-B6BC-2BF7849B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39D7A-5592-4CA7-AFD8-C152FF5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4E1E5-7458-4E64-8758-64F7F051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85247-A807-4004-B13B-159CDD4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B3E-4D10-4300-8F09-8EAA234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37D7-00CE-4C55-8E52-EA843E9E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56DCE-8FE7-4BC3-8380-3965994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3D71A-535A-4B4B-8662-0D55AE7B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2F5A3-A90E-4B26-A20F-CAC281AD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F9A8D-0FAE-48B5-B611-59815ABB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BF512-8F38-44D9-8E49-3C1C1F5A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4EC3A-3D10-4DC5-A90B-FE2476F4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4E6DC-4C75-4F1F-8529-1012F8B0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6733A-2F68-4F78-A0F4-5504553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F4930-633C-4E92-B4EE-66ED7B4A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A367B-375A-4257-A163-AA4564EE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0C78-977E-42CE-AA79-C79D57C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7940B-4AB6-4B2D-8259-495CC93F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36A7E-37BF-4326-B010-8CF0756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02225-F30B-4EFC-95E8-AD4941D3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E5CA3-4E58-447C-AC37-5543D3A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B0E35-E193-41F0-9DBF-9B7E51E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F6EA1-F36B-457C-8736-AA34706B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C2114-DC08-4C8B-A82B-642ECAF1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1BE75-957E-419B-B591-647443E8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3223C-FF09-4B49-BF8E-F8EBD9E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FD3C6-15FB-4217-80E3-C2A15391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25BD-12FF-42F7-9F23-773CD156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72E414-4C9D-459F-B5FE-01F0053D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1092B-47A7-4F2A-9EA4-E1B0B26E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D44D0-9319-4760-876A-135D8737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3F896-4CC4-4C71-8BB1-1ADA9F7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E945C-3E9B-4415-9817-1302F37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9668E-0873-4350-A74A-2449BBD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7163B-7204-4BC4-AFCC-C3847638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D3391-10A5-4132-A94C-18B3533D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11C9F-8D7F-4CBD-A794-C6AF1220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40256-30DE-49B4-B7BF-51ED706B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9DA0-1329-4D55-9B72-DF24DBE5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5CB8E-E9DD-463A-9C89-473AB446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52950-258D-473A-AC2A-FD2163FD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247EE-B359-42F1-8621-38CD171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9DB9C-BFDC-4FC7-9228-4EF54BE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97C92-D814-4E72-9E6C-89C7532B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FE8D7-EA8A-4601-907D-3F13FC2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695E2-908F-4FCA-96B5-C20E852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B36C3-38B3-481D-AE6C-BF867EA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93221-88B2-42CD-80F4-F26D9ED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A6BAA-90B7-42B6-8B88-3B81E2F8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E88A-A782-4D4D-92E3-BA906DE5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ABE49-75A6-498F-9F8A-81D18E9B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E2C0BD-5B45-4824-9AE2-21B39CE4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B84A7-08D4-48D5-9A0C-CAFB01E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3B0B2-9DB4-48BF-81F1-B855354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FFC758-FC8B-4C0A-B4D8-DBF85990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FF28F-C2B3-411C-BD8F-0B8AA6FA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1C2ACB-82E1-4B54-B3E1-76BA69F0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0E464-F109-4EA9-868C-BB868AC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19D6E-4FFF-4C95-B84A-B7C9A1A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8EE27-F01E-4F1A-B419-C9F1941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3B6E-A8DF-4AA9-A1F9-70288606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3AF53-8C84-443A-8DD9-139829E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7F9C6-26F2-42FA-B10F-B78B1047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A5D93-69BD-4B59-BBEE-4C9DF670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094E-DC4D-4B10-A11A-84DC8267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6BB9-A6ED-4495-84B2-B8D1E369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92AA-B49F-4CDD-B4A5-2C9FD98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7A41-6C1E-4B79-9F99-1DF3DF8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053-0AA8-48B0-B7FA-4C5C1B7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D870-13E8-435E-9DD7-54866E9E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56F18-0A49-47E5-AAB3-A8BCB4BE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2563-D1D8-46E7-AA8C-6BE3A3A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0082-7718-4AC9-841A-96FDA183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20FC-0518-40CE-968C-8EB28CB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2B3D-5C38-4535-924A-364E1868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2C373-CFBB-449C-9BC4-6C074085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519B-14E5-4D56-B5FD-B8392BEF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E44B-4250-417D-935E-0DCD9CE1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771A-2CE2-4AC9-A894-72B34E9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3E9-F228-4D30-B43B-633BF569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DD9E-F130-4AB5-880A-25C1FF6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745B-F85E-4C6A-93FC-2331CE5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4A65-46D6-45B5-89D9-53F9E4E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DBBE-F3A1-4C1C-B5DA-5F2DDFB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CE9F-4E4C-4112-A58D-6AD35B3F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AFBB-1996-46C4-AA9E-6BFABB1E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539B-ADD5-4268-A109-50FE69C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71F0-3267-42C0-B316-F2212E26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E39F-6DF4-4719-8E8E-AFA6A7CE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E2DA2-9006-496E-AA91-B10428C6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E8A-F381-40F2-AA14-AD62DBD0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B8CE-6EF0-4DD9-8319-89790E24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3A1B9-522C-4E14-9090-382EFCA7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F0FD-825F-4DDF-9683-03AC9BB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B5D6D-1069-4B25-99BB-C072983F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AB79-BFC7-437E-9C75-2666D23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F2E1-BD2E-4701-886F-9675E9C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6AF0F-0180-4C50-B317-E8EB9AE5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ECC74-8CD8-429E-A0BC-A70B7A0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C1BB-A6EA-4E48-8AFE-80F0EF30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96334-9C35-44B7-B2CB-6EDC8D7D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DD2-4739-42F2-8E92-AEE3C13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E6912-7901-47B4-8102-5644567D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1746-8BA0-4C0E-93F5-2CE8A30B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ED84-6177-436E-B029-77769C4F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3A8E-EE36-4D5E-8F7C-AAB224D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E88CA-25BC-4508-9516-AFC9FA1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C1AD2-E23A-41BE-B58B-96AF27C8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EDA00-07AA-40F9-BC75-3D7B0254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EE14F-6856-4BCD-9256-801F5B66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CBA1-7134-4192-A69D-50BCF71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89552-36D5-48FD-BB49-EB00BA0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91E-3745-4824-958D-11B4EC5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A3BA-699D-4EB8-9852-C789C7A9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8C794-031F-4267-B7D7-BBBF185E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E14A6-7DB5-4D49-BF37-89074293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6929-110F-4707-A631-92C59E85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644B7-C2D4-4640-9321-62742E7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758E1-185B-430E-943B-CF6EE56D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C8505-74CF-43B0-A7F3-3BFDBA99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14ABE-2EAF-4B3C-9765-0B10813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D0D1-1A51-40DB-8EFA-F00876D0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B24DD-BF8B-41BF-9DE0-8411EBC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EFF-4ADA-44D6-B53A-506876B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25C1-FB01-4E56-9ABC-CBA96A5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2B2F-F310-405A-89D1-C43FBBE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A92F2-2857-4E5A-9F2D-D17768A4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6177-872C-4AB5-8E29-587F6C99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E8DC-F70F-4D63-B179-54647989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9DF0-1952-4229-BEF8-466ADAF4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45D5E-36B5-48C4-9A6A-3E967C5E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26BB-3E90-4306-9FF1-1EC7F9ED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58898-F633-4D3C-9C4F-95C19997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620C-C359-486D-8184-DC9A8AE3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D64-95A9-48B4-9B1B-825298D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247A5-A44C-460C-A075-BB36B78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F00B-B678-495E-B0D8-1E812D3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DA9D0-D30D-4F88-8836-278C572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8FD75-A3B2-48B2-892D-6213C58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F7E2-ED13-4987-B867-8770DBF1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74A4-36DF-43A8-901B-F8F241A6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805AD-7A2C-4509-956A-7AA6B8F9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353CB-A3D7-4CC4-80CE-1625DD0D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DCDEC-7E6F-4777-A026-451C51A0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F6437-1ACF-46FB-B833-CEB5FF17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A36C-0AA4-41CC-9323-F19E710A9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2BE-AAC6-4019-862B-1BB7DC2B3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FBB0-A09D-4A8F-B3C3-7D7EA590D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2728-7E7A-4BD1-9BB0-BAE756397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44AF-06BD-433A-A639-47B3290A1E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0A1-D180-420C-A890-802766985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F29D-DA99-45FF-91B4-52DD21DFC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4E89-6617-445E-8E11-0273B3F2F4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9FDF-9D40-416F-A8CA-00896BAF84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093B-F45E-4AC0-9068-E81685577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CF1-4B8E-4CA9-923F-5EE77D9C0D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FFFF-8B2F-46D2-8FE2-323570160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2DBD-EFCC-4CD4-AD69-75A796BB9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C6AC-5C04-4210-9594-4196F887D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A4B2-CECD-4232-9ADA-6FD4179D7A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3A23-A44B-49B7-B9BC-4B9DD8F6C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8BE4-D91F-42F4-ACEC-8A2B6804CE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413-802D-4317-B87B-9EBB8C2BC7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3955-6AA9-403E-9F29-7AD9B0172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FA3B-02F7-4493-96EB-4FBD999EA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A713-FC58-41EC-92A0-8F35FF754D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C6F-D77C-4FE0-A1BE-9FFB4AADF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5B8F-3AFA-4910-B7EE-57C2CE9BE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6A1-7431-424C-9788-47AE24B2EB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5A9-ADEA-45C9-B319-E8A65B32B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9A51-2D44-40E0-B4B1-735D7FBB21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E82-70D5-4D48-863F-4733EB773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703-DA65-422E-89FD-6D998BF5C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CCFA-52A7-4D94-88E0-538EF809A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0B3B-67D6-4992-8AE9-A0748EF78D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44D-7D27-456B-874D-35605D3E5F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4CF1-65CD-453D-B320-245AF13E1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6D86-9B6A-42C6-94AC-1D7538FD8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931-79C2-4083-92CB-93F2129A63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0232-5F40-4886-9BC6-9623A7FE3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A479-886E-48EB-B9F0-F91EC387A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F67-28E1-4690-926B-7D6300B93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BE57-78D9-4058-9E57-F55F96FF42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E273-6CDD-43EA-A513-D2B4C83CC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17D3-5956-4E4C-99CE-F289AFCDFD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019240" y="3100320"/>
            <a:ext cx="51055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rcRect l="0" t="51095" r="0" b="0"/>
          <a:stretch/>
        </p:blipFill>
        <p:spPr>
          <a:xfrm>
            <a:off x="442800" y="1968480"/>
            <a:ext cx="8258400" cy="1317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428760" y="3357720"/>
            <a:ext cx="8286480" cy="34383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531720" y="763560"/>
            <a:ext cx="4038840" cy="11336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50920" y="5213520"/>
            <a:ext cx="5749920" cy="93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214200" y="5937120"/>
            <a:ext cx="5749920" cy="95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214200" y="6683400"/>
            <a:ext cx="5749920" cy="95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7"/>
          <a:stretch/>
        </p:blipFill>
        <p:spPr>
          <a:xfrm>
            <a:off x="2143080" y="6143760"/>
            <a:ext cx="9907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414360" y="714240"/>
            <a:ext cx="8315280" cy="6115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2"/>
          <a:stretch/>
        </p:blipFill>
        <p:spPr>
          <a:xfrm>
            <a:off x="7236000" y="5630760"/>
            <a:ext cx="1512720" cy="435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900000" y="6324480"/>
            <a:ext cx="2664000" cy="4352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4"/>
          <a:stretch/>
        </p:blipFill>
        <p:spPr>
          <a:xfrm>
            <a:off x="8096400" y="611280"/>
            <a:ext cx="609480" cy="533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6" descr=""/>
          <p:cNvPicPr/>
          <p:nvPr/>
        </p:nvPicPr>
        <p:blipFill>
          <a:blip r:embed="rId5"/>
          <a:stretch/>
        </p:blipFill>
        <p:spPr>
          <a:xfrm>
            <a:off x="6154560" y="2011320"/>
            <a:ext cx="1200240" cy="59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6"/>
          <a:stretch/>
        </p:blipFill>
        <p:spPr>
          <a:xfrm>
            <a:off x="250920" y="1069920"/>
            <a:ext cx="8642160" cy="1443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7"/>
          <a:stretch/>
        </p:blipFill>
        <p:spPr>
          <a:xfrm>
            <a:off x="250920" y="1806480"/>
            <a:ext cx="864216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452520" y="714240"/>
            <a:ext cx="8238960" cy="6115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2"/>
          <a:stretch/>
        </p:blipFill>
        <p:spPr>
          <a:xfrm>
            <a:off x="6659640" y="2852640"/>
            <a:ext cx="100800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433440" y="923760"/>
            <a:ext cx="8277120" cy="5648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2"/>
          <a:stretch/>
        </p:blipFill>
        <p:spPr>
          <a:xfrm>
            <a:off x="250920" y="3000240"/>
            <a:ext cx="8642160" cy="144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3"/>
          <a:stretch/>
        </p:blipFill>
        <p:spPr>
          <a:xfrm>
            <a:off x="250920" y="3713040"/>
            <a:ext cx="864216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438120" y="857160"/>
            <a:ext cx="8267760" cy="4096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" descr=""/>
          <p:cNvPicPr/>
          <p:nvPr/>
        </p:nvPicPr>
        <p:blipFill>
          <a:blip r:embed="rId1"/>
          <a:stretch/>
        </p:blipFill>
        <p:spPr>
          <a:xfrm>
            <a:off x="442800" y="852480"/>
            <a:ext cx="8258400" cy="59342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2"/>
          <a:stretch/>
        </p:blipFill>
        <p:spPr>
          <a:xfrm>
            <a:off x="4932360" y="2887560"/>
            <a:ext cx="1800360" cy="4334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3"/>
          <a:stretch/>
        </p:blipFill>
        <p:spPr>
          <a:xfrm>
            <a:off x="5580000" y="4941720"/>
            <a:ext cx="3168720" cy="4334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4"/>
          <a:stretch/>
        </p:blipFill>
        <p:spPr>
          <a:xfrm>
            <a:off x="755640" y="5589720"/>
            <a:ext cx="1871640" cy="4348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5"/>
          <a:stretch/>
        </p:blipFill>
        <p:spPr>
          <a:xfrm>
            <a:off x="6875640" y="5589720"/>
            <a:ext cx="1800000" cy="4348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6"/>
          <a:stretch/>
        </p:blipFill>
        <p:spPr>
          <a:xfrm>
            <a:off x="755640" y="6259680"/>
            <a:ext cx="1871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1" descr=""/>
          <p:cNvPicPr/>
          <p:nvPr/>
        </p:nvPicPr>
        <p:blipFill>
          <a:blip r:embed="rId1"/>
          <a:stretch/>
        </p:blipFill>
        <p:spPr>
          <a:xfrm>
            <a:off x="438120" y="1076400"/>
            <a:ext cx="8267760" cy="5210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2"/>
          <a:stretch/>
        </p:blipFill>
        <p:spPr>
          <a:xfrm>
            <a:off x="324000" y="24382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3"/>
          <a:stretch/>
        </p:blipFill>
        <p:spPr>
          <a:xfrm>
            <a:off x="324000" y="310680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4"/>
          <a:stretch/>
        </p:blipFill>
        <p:spPr>
          <a:xfrm>
            <a:off x="324000" y="44434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5"/>
          <a:stretch/>
        </p:blipFill>
        <p:spPr>
          <a:xfrm>
            <a:off x="324000" y="511812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6"/>
          <a:stretch/>
        </p:blipFill>
        <p:spPr>
          <a:xfrm>
            <a:off x="324000" y="5815080"/>
            <a:ext cx="8569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433440" y="1081080"/>
            <a:ext cx="8277120" cy="54198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2"/>
          <a:stretch/>
        </p:blipFill>
        <p:spPr>
          <a:xfrm>
            <a:off x="3995640" y="3963960"/>
            <a:ext cx="1008000" cy="4334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6948360" y="3933720"/>
            <a:ext cx="1800360" cy="4334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1187280" y="4619520"/>
            <a:ext cx="2305080" cy="4334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4140360" y="5300640"/>
            <a:ext cx="1008000" cy="4348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6875640" y="5300640"/>
            <a:ext cx="1873080" cy="4348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971640" y="5950080"/>
            <a:ext cx="237636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1162080"/>
            <a:ext cx="8286480" cy="52671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3029040" y="3284640"/>
            <a:ext cx="568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57200" y="728640"/>
            <a:ext cx="8229600" cy="60580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1163520" y="2143080"/>
            <a:ext cx="2009880" cy="1047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2786040" y="4551480"/>
            <a:ext cx="2009880" cy="1047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4"/>
          <a:stretch/>
        </p:blipFill>
        <p:spPr>
          <a:xfrm>
            <a:off x="5715000" y="5757840"/>
            <a:ext cx="2009880" cy="1047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5"/>
          <a:stretch/>
        </p:blipFill>
        <p:spPr>
          <a:xfrm>
            <a:off x="2949480" y="3357720"/>
            <a:ext cx="10573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38120" y="1228680"/>
            <a:ext cx="8267760" cy="4486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568440" cy="457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6875640" y="3933720"/>
            <a:ext cx="56988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47840" y="1147680"/>
            <a:ext cx="8248320" cy="4638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1008000" cy="433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0080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66560" y="714240"/>
            <a:ext cx="8210880" cy="2495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2" descr=""/>
          <p:cNvPicPr/>
          <p:nvPr/>
        </p:nvPicPr>
        <p:blipFill>
          <a:blip r:embed="rId2"/>
          <a:srcRect l="0" t="0" r="0" b="29957"/>
          <a:stretch/>
        </p:blipFill>
        <p:spPr>
          <a:xfrm>
            <a:off x="428760" y="3357720"/>
            <a:ext cx="8286480" cy="344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1008000" cy="4334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3973680" y="3363840"/>
            <a:ext cx="10080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438120" y="723960"/>
            <a:ext cx="8267760" cy="6134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324000" y="14572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324000" y="355608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324000" y="4260960"/>
            <a:ext cx="8569080" cy="414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324000" y="6372360"/>
            <a:ext cx="8569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38120" y="942840"/>
            <a:ext cx="8267760" cy="562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1800360" cy="434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3"/>
          <a:stretch/>
        </p:blipFill>
        <p:spPr>
          <a:xfrm>
            <a:off x="6516720" y="5373720"/>
            <a:ext cx="2232000" cy="434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4"/>
          <a:stretch/>
        </p:blipFill>
        <p:spPr>
          <a:xfrm>
            <a:off x="755640" y="6062760"/>
            <a:ext cx="518472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52520" y="1185840"/>
            <a:ext cx="8238960" cy="4743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232000" cy="4348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3168720" cy="4352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4"/>
          <a:stretch/>
        </p:blipFill>
        <p:spPr>
          <a:xfrm>
            <a:off x="1258920" y="5445000"/>
            <a:ext cx="187308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2:54:0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